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B29-A793-42D3-8F8E-4EFA5F55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B8A-2767-4F59-9007-3A5C859D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B26-C97C-49AD-A025-14DF84D9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80E-99C6-49D9-9BF4-A7C7FCF3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439-898F-4785-9164-D27AFC37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F60-EB2D-410B-9950-E8ABA2DC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DE2-C43A-4E7E-BE7A-1B341F2C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BB4-ADE8-4349-9BA3-0C8BA11B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AA8-60C7-4067-94F0-0E7B1A51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5D5-7AF2-40F9-A5EE-7D8E60E6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A23-C025-4CF4-BB18-2FD407CC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7D2-6C9E-40BC-9750-A21941C8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6853-DEA6-451C-8A18-4BBB4D448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0219416ekJGdecUPx_ph" descr=""/>
          <p:cNvPicPr/>
          <p:nvPr/>
        </p:nvPicPr>
        <p:blipFill>
          <a:blip r:embed="rId1"/>
          <a:stretch/>
        </p:blipFill>
        <p:spPr>
          <a:xfrm>
            <a:off x="0" y="0"/>
            <a:ext cx="11049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34800"/>
            <a:ext cx="167652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قى ل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باً وأ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رؤياك نفسي تحلُم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أرى وجهك يو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نت الذي دوما ترا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42280" y="228600"/>
            <a:ext cx="1701720" cy="10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آتي إليك ربي دوما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ثقاً أمري أُسلِّمُ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تقبلني مبتسما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أنك همّي تعلم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6:35:22Z</dcterms:created>
  <dc:creator>SUZANNE.MD</dc:creator>
  <dc:description/>
  <dc:language>en-US</dc:language>
  <cp:lastModifiedBy>USER</cp:lastModifiedBy>
  <dcterms:modified xsi:type="dcterms:W3CDTF">2003-01-16T15:33:11Z</dcterms:modified>
  <cp:revision>6</cp:revision>
  <dc:subject/>
  <dc:title>PowerPoint Presentation</dc:title>
</cp:coreProperties>
</file>